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8595-9FF0-4E21-8297-15586039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7CAC-AD13-4E8D-9FCA-6766838C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929E-7B7E-459B-AAD4-2129976AD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A741-09C7-44A1-8914-2669AF601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2FE2-C2C7-4225-817B-371E3EEF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E387-6462-4E24-A255-436E9FA0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85BD-D51D-41DD-AE3D-35085FF5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776F-03EE-41A2-8598-1B57FC87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6CC6-DE9C-410E-B52E-0DEF3C52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EE99-EEEF-4102-9A8E-174A83C8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476D-CDFA-49C1-9305-6394D694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7B02-9763-41CE-9417-F6AE30C5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D4AF-33B9-43D4-9C5C-1BB3A10961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image" Target="../media/image2.png"/><Relationship Id="rId19" Type="http://schemas.openxmlformats.org/officeDocument/2006/relationships/image" Target="../media/image1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ind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A Fraction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otball players below make up a red and a blue team .How many are in each team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295280" y="1295280"/>
            <a:ext cx="5486400" cy="2133720"/>
            <a:chOff x="1295280" y="1295280"/>
            <a:chExt cx="5486400" cy="213372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4800600" y="2133720"/>
              <a:ext cx="838080" cy="53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2514600" y="2057400"/>
              <a:ext cx="8380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3733920" y="1295280"/>
              <a:ext cx="8380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4"/>
            <a:stretch/>
          </p:blipFill>
          <p:spPr>
            <a:xfrm>
              <a:off x="3733920" y="2057400"/>
              <a:ext cx="8380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5"/>
            <a:stretch/>
          </p:blipFill>
          <p:spPr>
            <a:xfrm>
              <a:off x="5181480" y="1295280"/>
              <a:ext cx="8384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6"/>
            <a:stretch/>
          </p:blipFill>
          <p:spPr>
            <a:xfrm>
              <a:off x="5943600" y="2209680"/>
              <a:ext cx="8380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7"/>
            <a:stretch/>
          </p:blipFill>
          <p:spPr>
            <a:xfrm>
              <a:off x="1295280" y="2666880"/>
              <a:ext cx="838440" cy="5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8"/>
            <a:stretch/>
          </p:blipFill>
          <p:spPr>
            <a:xfrm>
              <a:off x="4152960" y="2897280"/>
              <a:ext cx="838080" cy="53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9"/>
            <a:stretch/>
          </p:blipFill>
          <p:spPr>
            <a:xfrm>
              <a:off x="2819520" y="2897280"/>
              <a:ext cx="838080" cy="53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10"/>
            <a:stretch/>
          </p:blipFill>
          <p:spPr>
            <a:xfrm>
              <a:off x="2209680" y="1295280"/>
              <a:ext cx="838440" cy="53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"/>
          <p:cNvSpPr/>
          <p:nvPr/>
        </p:nvSpPr>
        <p:spPr>
          <a:xfrm>
            <a:off x="380880" y="3733920"/>
            <a:ext cx="5410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players will be in each team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2666880"/>
            <a:ext cx="990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838080" y="5257800"/>
            <a:ext cx="838440" cy="531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38280" y="1981080"/>
            <a:ext cx="990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7162920" y="4952880"/>
            <a:ext cx="838080" cy="533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133720" y="1143000"/>
            <a:ext cx="9903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3"/>
          <a:stretch/>
        </p:blipFill>
        <p:spPr>
          <a:xfrm>
            <a:off x="1828800" y="5562720"/>
            <a:ext cx="838080" cy="531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581280" y="1143000"/>
            <a:ext cx="990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4"/>
          <a:stretch/>
        </p:blipFill>
        <p:spPr>
          <a:xfrm>
            <a:off x="6400800" y="5562720"/>
            <a:ext cx="838080" cy="533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666880" y="2819520"/>
            <a:ext cx="9907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5"/>
          <a:stretch/>
        </p:blipFill>
        <p:spPr>
          <a:xfrm>
            <a:off x="2514600" y="4876920"/>
            <a:ext cx="838080" cy="531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81280" y="1981080"/>
            <a:ext cx="990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6"/>
          <a:stretch/>
        </p:blipFill>
        <p:spPr>
          <a:xfrm>
            <a:off x="5334120" y="5257800"/>
            <a:ext cx="838080" cy="533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076640" y="2666880"/>
            <a:ext cx="990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7"/>
          <a:stretch/>
        </p:blipFill>
        <p:spPr>
          <a:xfrm>
            <a:off x="3276720" y="4419720"/>
            <a:ext cx="838080" cy="531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105520" y="1143000"/>
            <a:ext cx="9903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8"/>
          <a:stretch/>
        </p:blipFill>
        <p:spPr>
          <a:xfrm>
            <a:off x="4572000" y="4648320"/>
            <a:ext cx="838080" cy="533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724280" y="1981080"/>
            <a:ext cx="990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9"/>
          <a:stretch/>
        </p:blipFill>
        <p:spPr>
          <a:xfrm>
            <a:off x="0" y="4724280"/>
            <a:ext cx="838080" cy="532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791320" y="2133720"/>
            <a:ext cx="99036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0"/>
          <a:stretch/>
        </p:blipFill>
        <p:spPr>
          <a:xfrm>
            <a:off x="7924680" y="4191120"/>
            <a:ext cx="838440" cy="533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666880" y="6019920"/>
            <a:ext cx="3200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players in each t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228600" y="380880"/>
            <a:ext cx="5715000" cy="1381680"/>
            <a:chOff x="228600" y="380880"/>
            <a:chExt cx="5715000" cy="1381680"/>
          </a:xfrm>
        </p:grpSpPr>
        <p:sp>
          <p:nvSpPr>
            <p:cNvPr id="77" name=""/>
            <p:cNvSpPr/>
            <p:nvPr/>
          </p:nvSpPr>
          <p:spPr>
            <a:xfrm>
              <a:off x="228600" y="380880"/>
              <a:ext cx="5715000" cy="1381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 find the number of players in each team we have to find      of 1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2286000" y="685800"/>
                  <a:ext cx="32544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" name=""/>
          <p:cNvGrpSpPr/>
          <p:nvPr/>
        </p:nvGrpSpPr>
        <p:grpSpPr>
          <a:xfrm>
            <a:off x="4724280" y="914400"/>
            <a:ext cx="4114800" cy="3427560"/>
            <a:chOff x="4724280" y="914400"/>
            <a:chExt cx="4114800" cy="342756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6019920" y="2514600"/>
              <a:ext cx="838080" cy="53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6781680" y="3162240"/>
              <a:ext cx="8384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3"/>
            <a:stretch/>
          </p:blipFill>
          <p:spPr>
            <a:xfrm>
              <a:off x="4724280" y="2362320"/>
              <a:ext cx="838440" cy="53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4"/>
            <a:stretch/>
          </p:blipFill>
          <p:spPr>
            <a:xfrm>
              <a:off x="5029200" y="3162240"/>
              <a:ext cx="838080" cy="53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5"/>
            <a:stretch/>
          </p:blipFill>
          <p:spPr>
            <a:xfrm>
              <a:off x="6019920" y="3809880"/>
              <a:ext cx="838080" cy="5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6"/>
            <a:stretch/>
          </p:blipFill>
          <p:spPr>
            <a:xfrm>
              <a:off x="6324480" y="1676520"/>
              <a:ext cx="838440" cy="53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7"/>
            <a:stretch/>
          </p:blipFill>
          <p:spPr>
            <a:xfrm>
              <a:off x="7086600" y="2362320"/>
              <a:ext cx="8380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8"/>
            <a:stretch/>
          </p:blipFill>
          <p:spPr>
            <a:xfrm>
              <a:off x="7315200" y="1523880"/>
              <a:ext cx="8380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9"/>
            <a:stretch/>
          </p:blipFill>
          <p:spPr>
            <a:xfrm>
              <a:off x="7010280" y="914400"/>
              <a:ext cx="8384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10"/>
            <a:stretch/>
          </p:blipFill>
          <p:spPr>
            <a:xfrm>
              <a:off x="8001000" y="2895480"/>
              <a:ext cx="83808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"/>
          <p:cNvSpPr/>
          <p:nvPr/>
        </p:nvSpPr>
        <p:spPr>
          <a:xfrm>
            <a:off x="228600" y="2286000"/>
            <a:ext cx="3733920" cy="886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alculat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10 simply divide 10 by 2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3657600"/>
            <a:ext cx="1295640" cy="886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3733920"/>
            <a:ext cx="609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4648320"/>
            <a:ext cx="5105520" cy="101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ind a half of a number divide by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266760" y="228600"/>
            <a:ext cx="8610480" cy="1572120"/>
            <a:chOff x="266760" y="228600"/>
            <a:chExt cx="8610480" cy="1572120"/>
          </a:xfrm>
        </p:grpSpPr>
        <p:sp>
          <p:nvSpPr>
            <p:cNvPr id="95" name=""/>
            <p:cNvSpPr/>
            <p:nvPr/>
          </p:nvSpPr>
          <p:spPr>
            <a:xfrm>
              <a:off x="266760" y="228600"/>
              <a:ext cx="8610480" cy="15721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f a       of  the shapes below into placed in  each box, how man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hapes go in each box?         Use the colours to help you…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914400" y="228600"/>
                  <a:ext cx="32544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7" name=""/>
          <p:cNvSpPr/>
          <p:nvPr/>
        </p:nvSpPr>
        <p:spPr>
          <a:xfrm>
            <a:off x="533520" y="2057400"/>
            <a:ext cx="38088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205740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2133720"/>
            <a:ext cx="38088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274320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259092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2666880"/>
            <a:ext cx="38088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2057400"/>
            <a:ext cx="38088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6200" y="2133720"/>
            <a:ext cx="38088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3429000"/>
            <a:ext cx="38088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342900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2971800"/>
            <a:ext cx="38124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3429000"/>
            <a:ext cx="38088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57200" y="4419720"/>
            <a:ext cx="1905120" cy="1983600"/>
            <a:chOff x="457200" y="4419720"/>
            <a:chExt cx="1905120" cy="1983600"/>
          </a:xfrm>
        </p:grpSpPr>
        <p:sp>
          <p:nvSpPr>
            <p:cNvPr id="110" name=""/>
            <p:cNvSpPr/>
            <p:nvPr/>
          </p:nvSpPr>
          <p:spPr>
            <a:xfrm>
              <a:off x="457200" y="4419720"/>
              <a:ext cx="1905120" cy="1371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62120" y="59436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x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200400" y="4419720"/>
            <a:ext cx="1905120" cy="1983600"/>
            <a:chOff x="3200400" y="4419720"/>
            <a:chExt cx="1905120" cy="1983600"/>
          </a:xfrm>
        </p:grpSpPr>
        <p:sp>
          <p:nvSpPr>
            <p:cNvPr id="113" name=""/>
            <p:cNvSpPr/>
            <p:nvPr/>
          </p:nvSpPr>
          <p:spPr>
            <a:xfrm>
              <a:off x="3200400" y="4419720"/>
              <a:ext cx="1905120" cy="1371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05320" y="59436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x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638680" y="4419720"/>
            <a:ext cx="1905120" cy="1907280"/>
            <a:chOff x="5638680" y="4419720"/>
            <a:chExt cx="1905120" cy="1907280"/>
          </a:xfrm>
        </p:grpSpPr>
        <p:sp>
          <p:nvSpPr>
            <p:cNvPr id="116" name=""/>
            <p:cNvSpPr/>
            <p:nvPr/>
          </p:nvSpPr>
          <p:spPr>
            <a:xfrm>
              <a:off x="5638680" y="4419720"/>
              <a:ext cx="1905120" cy="1371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43600" y="58672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x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57200" y="1981080"/>
            <a:ext cx="53352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4572000"/>
            <a:ext cx="38088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1981080"/>
            <a:ext cx="5331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449568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2057400"/>
            <a:ext cx="533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4495680"/>
            <a:ext cx="38088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9880" y="2057400"/>
            <a:ext cx="533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4572000"/>
            <a:ext cx="38088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2514600"/>
            <a:ext cx="533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449568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057400"/>
            <a:ext cx="533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4495680"/>
            <a:ext cx="38088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3429000"/>
            <a:ext cx="533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4572000"/>
            <a:ext cx="38088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2666880"/>
            <a:ext cx="53352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81560" y="449568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2819520"/>
            <a:ext cx="5331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29400" y="4495680"/>
            <a:ext cx="38088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3429000"/>
            <a:ext cx="533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5181480"/>
            <a:ext cx="38088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3429000"/>
            <a:ext cx="5331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52680" y="502920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2590920"/>
            <a:ext cx="533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15000" y="5029200"/>
            <a:ext cx="38088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228600"/>
            <a:ext cx="8915400" cy="825480"/>
            <a:chOff x="0" y="228600"/>
            <a:chExt cx="8915400" cy="825480"/>
          </a:xfrm>
        </p:grpSpPr>
        <p:sp>
          <p:nvSpPr>
            <p:cNvPr id="143" name=""/>
            <p:cNvSpPr/>
            <p:nvPr/>
          </p:nvSpPr>
          <p:spPr>
            <a:xfrm>
              <a:off x="0" y="228600"/>
              <a:ext cx="8915400" cy="8254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n the last question there were 12 circles and      of the circles was 4 circl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"/>
                <p:cNvSpPr txBox="1"/>
                <p:nvPr/>
              </p:nvSpPr>
              <p:spPr>
                <a:xfrm>
                  <a:off x="5562720" y="228600"/>
                  <a:ext cx="2952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5" name=""/>
          <p:cNvGrpSpPr/>
          <p:nvPr/>
        </p:nvGrpSpPr>
        <p:grpSpPr>
          <a:xfrm>
            <a:off x="152280" y="1371600"/>
            <a:ext cx="6096240" cy="1572120"/>
            <a:chOff x="152280" y="1371600"/>
            <a:chExt cx="6096240" cy="1572120"/>
          </a:xfrm>
        </p:grpSpPr>
        <p:sp>
          <p:nvSpPr>
            <p:cNvPr id="146" name=""/>
            <p:cNvSpPr/>
            <p:nvPr/>
          </p:nvSpPr>
          <p:spPr>
            <a:xfrm>
              <a:off x="152280" y="1371600"/>
              <a:ext cx="6096240" cy="1572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 calculate a       of a number we divide by 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2057400" y="1828800"/>
                  <a:ext cx="32400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8" name=""/>
          <p:cNvSpPr/>
          <p:nvPr/>
        </p:nvSpPr>
        <p:spPr>
          <a:xfrm>
            <a:off x="152280" y="3429000"/>
            <a:ext cx="1371600" cy="886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429000"/>
            <a:ext cx="609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4267080"/>
            <a:ext cx="6477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: To find 1/3 of a number divide by thre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5029200"/>
            <a:ext cx="38088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52680" y="495288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15000" y="4952880"/>
            <a:ext cx="38088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5029200"/>
            <a:ext cx="38088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495288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4952880"/>
            <a:ext cx="38088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5029200"/>
            <a:ext cx="38088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81560" y="495288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4952880"/>
            <a:ext cx="38088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5638680"/>
            <a:ext cx="38088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548640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15000" y="5486400"/>
            <a:ext cx="38088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380880" y="152280"/>
            <a:ext cx="6019920" cy="838440"/>
            <a:chOff x="380880" y="152280"/>
            <a:chExt cx="6019920" cy="838440"/>
          </a:xfrm>
        </p:grpSpPr>
        <p:sp>
          <p:nvSpPr>
            <p:cNvPr id="164" name=""/>
            <p:cNvSpPr/>
            <p:nvPr/>
          </p:nvSpPr>
          <p:spPr>
            <a:xfrm>
              <a:off x="380880" y="228600"/>
              <a:ext cx="381240" cy="304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080" y="609480"/>
              <a:ext cx="381240" cy="304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19320" y="228600"/>
              <a:ext cx="380880" cy="304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00200" y="609480"/>
              <a:ext cx="380880" cy="304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057400" y="228600"/>
              <a:ext cx="380880" cy="304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14600" y="609480"/>
              <a:ext cx="380880" cy="304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1800" y="228600"/>
              <a:ext cx="380880" cy="304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685800"/>
              <a:ext cx="380880" cy="304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57600" y="228600"/>
              <a:ext cx="380880" cy="304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62520" y="609480"/>
              <a:ext cx="380880" cy="304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81560" y="152280"/>
              <a:ext cx="380880" cy="304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533520"/>
              <a:ext cx="380880" cy="304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57800" y="228600"/>
              <a:ext cx="380880" cy="304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38680" y="609480"/>
              <a:ext cx="381240" cy="304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19920" y="228600"/>
              <a:ext cx="380880" cy="304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0" y="1600200"/>
            <a:ext cx="8763120" cy="8254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l numbers of the counters above have to be placed in 5 boxes. How many would go in each box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4920" y="3200400"/>
            <a:ext cx="8458200" cy="838080"/>
            <a:chOff x="304920" y="3200400"/>
            <a:chExt cx="8458200" cy="838080"/>
          </a:xfrm>
        </p:grpSpPr>
        <p:sp>
          <p:nvSpPr>
            <p:cNvPr id="181" name=""/>
            <p:cNvSpPr/>
            <p:nvPr/>
          </p:nvSpPr>
          <p:spPr>
            <a:xfrm>
              <a:off x="304920" y="3200400"/>
              <a:ext cx="144756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33720" y="3200400"/>
              <a:ext cx="144756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38480" y="3200400"/>
              <a:ext cx="14479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5000" y="3200400"/>
              <a:ext cx="14479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315200" y="3200400"/>
              <a:ext cx="14479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80880" y="2286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3276720"/>
            <a:ext cx="38124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5335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09680" y="3276720"/>
            <a:ext cx="38124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15228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91120" y="3276720"/>
            <a:ext cx="38088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00200" y="5335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1320" y="3276720"/>
            <a:ext cx="38088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2286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67480" y="3276720"/>
            <a:ext cx="38124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5335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3276720"/>
            <a:ext cx="38088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71800" y="2286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95480" y="3276720"/>
            <a:ext cx="38124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685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76920" y="3276720"/>
            <a:ext cx="38088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2286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3276720"/>
            <a:ext cx="38124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60948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01000" y="3276720"/>
            <a:ext cx="38088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43400" y="15228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3657600"/>
            <a:ext cx="38124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00600" y="5335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3657600"/>
            <a:ext cx="38088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15228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3657600"/>
            <a:ext cx="38088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60948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72200" y="3581280"/>
            <a:ext cx="38088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2286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772400" y="3657600"/>
            <a:ext cx="38088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04920" y="4572000"/>
            <a:ext cx="8534160" cy="1015920"/>
            <a:chOff x="304920" y="4572000"/>
            <a:chExt cx="8534160" cy="1015920"/>
          </a:xfrm>
        </p:grpSpPr>
        <p:sp>
          <p:nvSpPr>
            <p:cNvPr id="217" name=""/>
            <p:cNvSpPr/>
            <p:nvPr/>
          </p:nvSpPr>
          <p:spPr>
            <a:xfrm>
              <a:off x="304920" y="4572000"/>
              <a:ext cx="8534160" cy="1015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re were 15 counters and  5 boxes. The problem was to calcul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          of  15 .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914400" y="4952880"/>
                  <a:ext cx="2350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9" name=""/>
          <p:cNvSpPr/>
          <p:nvPr/>
        </p:nvSpPr>
        <p:spPr>
          <a:xfrm>
            <a:off x="380880" y="5867280"/>
            <a:ext cx="13716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5943600"/>
            <a:ext cx="6098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71800" y="5867280"/>
            <a:ext cx="480060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three counters in each bo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467160" y="304920"/>
            <a:ext cx="220968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x &amp; Mat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1680" y="1066680"/>
            <a:ext cx="800100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you have to divide by to find each of these fraction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09480" y="1676520"/>
            <a:ext cx="577800" cy="4495680"/>
            <a:chOff x="609480" y="1676520"/>
            <a:chExt cx="577800" cy="4495680"/>
          </a:xfrm>
        </p:grpSpPr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609480" y="1676520"/>
                  <a:ext cx="443160" cy="114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685800" y="3035160"/>
                  <a:ext cx="358920" cy="92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7" name=""/>
                <p:cNvSpPr txBox="1"/>
                <p:nvPr/>
              </p:nvSpPr>
              <p:spPr>
                <a:xfrm>
                  <a:off x="685800" y="4191120"/>
                  <a:ext cx="50148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762120" y="5257800"/>
                  <a:ext cx="35388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9" name=""/>
          <p:cNvGrpSpPr/>
          <p:nvPr/>
        </p:nvGrpSpPr>
        <p:grpSpPr>
          <a:xfrm>
            <a:off x="4800600" y="1828800"/>
            <a:ext cx="1295280" cy="4315320"/>
            <a:chOff x="4800600" y="1828800"/>
            <a:chExt cx="1295280" cy="4315320"/>
          </a:xfrm>
        </p:grpSpPr>
        <p:sp>
          <p:nvSpPr>
            <p:cNvPr id="230" name=""/>
            <p:cNvSpPr/>
            <p:nvPr/>
          </p:nvSpPr>
          <p:spPr>
            <a:xfrm>
              <a:off x="4800600" y="1828800"/>
              <a:ext cx="1219320" cy="88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vid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by 1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00600" y="3124080"/>
              <a:ext cx="1219320" cy="88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vid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by 6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76920" y="5257800"/>
              <a:ext cx="1218960" cy="88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vid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by 3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0600" y="4114800"/>
              <a:ext cx="1219320" cy="88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vid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by 7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219320" y="2133720"/>
            <a:ext cx="3352680" cy="33526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19320" y="3429000"/>
            <a:ext cx="3352680" cy="1066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371600" y="2285640"/>
            <a:ext cx="3200400" cy="2438280"/>
          </a:xfrm>
          <a:prstGeom prst="line">
            <a:avLst/>
          </a:prstGeom>
          <a:ln w="3816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219320" y="3657240"/>
            <a:ext cx="3352680" cy="2057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553080" y="4876920"/>
            <a:ext cx="762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raction Calculati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371600"/>
            <a:ext cx="15242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0" y="1981080"/>
            <a:ext cx="3048120" cy="762120"/>
            <a:chOff x="0" y="1981080"/>
            <a:chExt cx="3048120" cy="762120"/>
          </a:xfrm>
        </p:grpSpPr>
        <p:sp>
          <p:nvSpPr>
            <p:cNvPr id="242" name=""/>
            <p:cNvSpPr/>
            <p:nvPr/>
          </p:nvSpPr>
          <p:spPr>
            <a:xfrm>
              <a:off x="0" y="2057400"/>
              <a:ext cx="3048120" cy="4597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1)    of  20 peo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457200" y="1981080"/>
                  <a:ext cx="2952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4" name=""/>
          <p:cNvSpPr/>
          <p:nvPr/>
        </p:nvSpPr>
        <p:spPr>
          <a:xfrm>
            <a:off x="0" y="2909880"/>
            <a:ext cx="14479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4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76520" y="2971800"/>
            <a:ext cx="609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0" y="4038480"/>
            <a:ext cx="2514600" cy="762120"/>
            <a:chOff x="0" y="4038480"/>
            <a:chExt cx="2514600" cy="762120"/>
          </a:xfrm>
        </p:grpSpPr>
        <p:sp>
          <p:nvSpPr>
            <p:cNvPr id="247" name=""/>
            <p:cNvSpPr/>
            <p:nvPr/>
          </p:nvSpPr>
          <p:spPr>
            <a:xfrm>
              <a:off x="0" y="4114800"/>
              <a:ext cx="2514600" cy="4597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2)    of  £7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8" name=""/>
                <p:cNvSpPr txBox="1"/>
                <p:nvPr/>
              </p:nvSpPr>
              <p:spPr>
                <a:xfrm>
                  <a:off x="457200" y="4038480"/>
                  <a:ext cx="2952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9" name=""/>
          <p:cNvSpPr/>
          <p:nvPr/>
        </p:nvSpPr>
        <p:spPr>
          <a:xfrm>
            <a:off x="0" y="5257800"/>
            <a:ext cx="1295280" cy="886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2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9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23880" y="5334120"/>
            <a:ext cx="6098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£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286000" y="4724280"/>
            <a:ext cx="1574640" cy="166212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4724280" y="1905120"/>
            <a:ext cx="2743200" cy="761760"/>
            <a:chOff x="4724280" y="1905120"/>
            <a:chExt cx="2743200" cy="761760"/>
          </a:xfrm>
        </p:grpSpPr>
        <p:sp>
          <p:nvSpPr>
            <p:cNvPr id="253" name=""/>
            <p:cNvSpPr/>
            <p:nvPr/>
          </p:nvSpPr>
          <p:spPr>
            <a:xfrm>
              <a:off x="4724280" y="1981080"/>
              <a:ext cx="2743200" cy="4597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)     of  270 car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5181480" y="1905120"/>
                  <a:ext cx="29556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7162920" y="2895480"/>
            <a:ext cx="1601640" cy="4334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800600" y="3048120"/>
            <a:ext cx="1447920" cy="886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0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3048120"/>
            <a:ext cx="685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572000" y="4114800"/>
            <a:ext cx="3429000" cy="609480"/>
            <a:chOff x="4572000" y="4114800"/>
            <a:chExt cx="3429000" cy="609480"/>
          </a:xfrm>
        </p:grpSpPr>
        <p:sp>
          <p:nvSpPr>
            <p:cNvPr id="259" name=""/>
            <p:cNvSpPr/>
            <p:nvPr/>
          </p:nvSpPr>
          <p:spPr>
            <a:xfrm>
              <a:off x="4572000" y="4191120"/>
              <a:ext cx="3429000" cy="4597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4)      of  2700 childre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0" name=""/>
                <p:cNvSpPr txBox="1"/>
                <p:nvPr/>
              </p:nvSpPr>
              <p:spPr>
                <a:xfrm>
                  <a:off x="5029200" y="4114800"/>
                  <a:ext cx="33480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1" name=""/>
          <p:cNvGrpSpPr/>
          <p:nvPr/>
        </p:nvGrpSpPr>
        <p:grpSpPr>
          <a:xfrm>
            <a:off x="6095880" y="5257800"/>
            <a:ext cx="2438640" cy="1450440"/>
            <a:chOff x="6095880" y="5257800"/>
            <a:chExt cx="2438640" cy="1450440"/>
          </a:xfrm>
        </p:grpSpPr>
        <p:pic>
          <p:nvPicPr>
            <p:cNvPr id="262" name="" descr=""/>
            <p:cNvPicPr/>
            <p:nvPr/>
          </p:nvPicPr>
          <p:blipFill>
            <a:blip r:embed="rId3"/>
            <a:stretch/>
          </p:blipFill>
          <p:spPr>
            <a:xfrm>
              <a:off x="6629400" y="5257800"/>
              <a:ext cx="190512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6095880" y="6248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cho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572000" y="4876920"/>
            <a:ext cx="1752480" cy="886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00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920000" y="335772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Microsoft clip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451640" y="638172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Microsoft clip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124000" y="623736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Microsoft clip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Goes In The Box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1523880"/>
            <a:ext cx="1523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0" y="2286000"/>
            <a:ext cx="1828800" cy="685800"/>
            <a:chOff x="0" y="2286000"/>
            <a:chExt cx="1828800" cy="685800"/>
          </a:xfrm>
        </p:grpSpPr>
        <p:sp>
          <p:nvSpPr>
            <p:cNvPr id="271" name=""/>
            <p:cNvSpPr/>
            <p:nvPr/>
          </p:nvSpPr>
          <p:spPr>
            <a:xfrm>
              <a:off x="0" y="2362320"/>
              <a:ext cx="1828800" cy="4597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1)     of  45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2" name=""/>
                <p:cNvSpPr txBox="1"/>
                <p:nvPr/>
              </p:nvSpPr>
              <p:spPr>
                <a:xfrm>
                  <a:off x="457200" y="2286000"/>
                  <a:ext cx="26496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3" name=""/>
          <p:cNvGrpSpPr/>
          <p:nvPr/>
        </p:nvGrpSpPr>
        <p:grpSpPr>
          <a:xfrm>
            <a:off x="0" y="3657600"/>
            <a:ext cx="1828800" cy="685800"/>
            <a:chOff x="0" y="3657600"/>
            <a:chExt cx="1828800" cy="685800"/>
          </a:xfrm>
        </p:grpSpPr>
        <p:sp>
          <p:nvSpPr>
            <p:cNvPr id="274" name=""/>
            <p:cNvSpPr/>
            <p:nvPr/>
          </p:nvSpPr>
          <p:spPr>
            <a:xfrm>
              <a:off x="0" y="3809880"/>
              <a:ext cx="1828800" cy="4597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2)     of  88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533520" y="3657600"/>
                  <a:ext cx="26496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6" name=""/>
          <p:cNvGrpSpPr/>
          <p:nvPr/>
        </p:nvGrpSpPr>
        <p:grpSpPr>
          <a:xfrm>
            <a:off x="0" y="5181480"/>
            <a:ext cx="1981080" cy="806400"/>
            <a:chOff x="0" y="5181480"/>
            <a:chExt cx="1981080" cy="806400"/>
          </a:xfrm>
        </p:grpSpPr>
        <p:sp>
          <p:nvSpPr>
            <p:cNvPr id="277" name=""/>
            <p:cNvSpPr/>
            <p:nvPr/>
          </p:nvSpPr>
          <p:spPr>
            <a:xfrm>
              <a:off x="0" y="5334120"/>
              <a:ext cx="1981080" cy="4597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)     of  19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457200" y="5181480"/>
                  <a:ext cx="31284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9" name=""/>
          <p:cNvGrpSpPr/>
          <p:nvPr/>
        </p:nvGrpSpPr>
        <p:grpSpPr>
          <a:xfrm>
            <a:off x="4800600" y="2133720"/>
            <a:ext cx="2286000" cy="730080"/>
            <a:chOff x="4800600" y="2133720"/>
            <a:chExt cx="2286000" cy="730080"/>
          </a:xfrm>
        </p:grpSpPr>
        <p:sp>
          <p:nvSpPr>
            <p:cNvPr id="280" name=""/>
            <p:cNvSpPr/>
            <p:nvPr/>
          </p:nvSpPr>
          <p:spPr>
            <a:xfrm>
              <a:off x="4800600" y="2209680"/>
              <a:ext cx="2286000" cy="4597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4)    of  5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5257800" y="2133720"/>
                  <a:ext cx="282600" cy="73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2" name=""/>
          <p:cNvGrpSpPr/>
          <p:nvPr/>
        </p:nvGrpSpPr>
        <p:grpSpPr>
          <a:xfrm>
            <a:off x="4800600" y="3657600"/>
            <a:ext cx="2514600" cy="762120"/>
            <a:chOff x="4800600" y="3657600"/>
            <a:chExt cx="2514600" cy="762120"/>
          </a:xfrm>
        </p:grpSpPr>
        <p:sp>
          <p:nvSpPr>
            <p:cNvPr id="283" name=""/>
            <p:cNvSpPr/>
            <p:nvPr/>
          </p:nvSpPr>
          <p:spPr>
            <a:xfrm>
              <a:off x="4800600" y="3809880"/>
              <a:ext cx="2514600" cy="4597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5)    of 74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5257800" y="3657600"/>
                  <a:ext cx="2952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5" name=""/>
          <p:cNvGrpSpPr/>
          <p:nvPr/>
        </p:nvGrpSpPr>
        <p:grpSpPr>
          <a:xfrm>
            <a:off x="4800600" y="5257800"/>
            <a:ext cx="2133720" cy="685800"/>
            <a:chOff x="4800600" y="5257800"/>
            <a:chExt cx="2133720" cy="685800"/>
          </a:xfrm>
        </p:grpSpPr>
        <p:sp>
          <p:nvSpPr>
            <p:cNvPr id="286" name=""/>
            <p:cNvSpPr/>
            <p:nvPr/>
          </p:nvSpPr>
          <p:spPr>
            <a:xfrm>
              <a:off x="4800600" y="5334120"/>
              <a:ext cx="2133720" cy="4597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6)     of  10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7" name=""/>
                <p:cNvSpPr txBox="1"/>
                <p:nvPr/>
              </p:nvSpPr>
              <p:spPr>
                <a:xfrm>
                  <a:off x="5334120" y="5257800"/>
                  <a:ext cx="22536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8" name=""/>
          <p:cNvSpPr/>
          <p:nvPr/>
        </p:nvSpPr>
        <p:spPr>
          <a:xfrm>
            <a:off x="1981080" y="2743200"/>
            <a:ext cx="129564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57400" y="4343400"/>
            <a:ext cx="129528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33720" y="5791320"/>
            <a:ext cx="129528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238880" y="2743200"/>
            <a:ext cx="129564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315200" y="4343400"/>
            <a:ext cx="129528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238880" y="5791320"/>
            <a:ext cx="129564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5740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86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09680" y="5943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9152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4674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1520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0T16:14:07Z</dcterms:created>
  <dc:creator>LT Scotland</dc:creator>
  <dc:description/>
  <dc:language>en-US</dc:language>
  <cp:lastModifiedBy>LTS</cp:lastModifiedBy>
  <dcterms:modified xsi:type="dcterms:W3CDTF">2004-11-28T13:43:09Z</dcterms:modified>
  <cp:revision>34</cp:revision>
  <dc:subject/>
  <dc:title>Access 3 Mathematics: Unit 1 Outcome 1 - Finding A Fraction…..</dc:title>
</cp:coreProperties>
</file>